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Quietschende_Reifen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444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A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033E3E-EE4B-4453-821B-6D824D3BBEA3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4A1740-D071-4B66-AF79-E7A408C34101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dieser Folie in das Layout „leere Folie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oberen Teil der Folie den Text „Flintstones“ als WordArt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unteren Teil das Bild Hole_Flintstones.jpg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C49A87-54E5-4D58-8C2E-0A2361D55782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auf „Zweispaltiger Text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pieren Sie den Text „...und der Rüsselstaubsauger“ in die zweite Sp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dnen Sie in der ersten Spalte Bild und Text so an, daß das Bild oben und der Text darunter ste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Rüsselstaubsauger“ soll beim Erscheinen ro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D5CA45-1575-4564-90F0-5527D224F2E9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ändern sie Form und Ausrichtung von Textfeld und Bild so, daß sich der Text links und das Bild rechts befind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359306-F0E0-4A88-B224-378B12A500C9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Barney und Fred im Auto“ soll automatisch nach 2 Sekunden erschei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s Eingangseffekt wählen Sie „Text“ und „von links oben“, als Geräusch wählen Sie „Motor“ oder „quietschende Reif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35E-3B19-4F12-BA12-E86F82D0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3C4-1E36-474E-91C8-A22F2380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7D8-98C9-42C7-B636-0E5666E2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5E1-1935-423D-AC33-520CA172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5C5A-7847-4EF4-A3FA-382BD30A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A658-6CB6-4748-91F4-27ABB8EB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92AB-4085-4A3C-A2E3-63692308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17AC-A31B-40DF-A892-1677899F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36E2-7F6D-4528-9A9F-A122D64F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0094-8EC5-4FD7-B777-F6A4143A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F644-4C94-45DE-A9E9-6A142E3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1DF-A86F-4AE8-A27D-DD04847D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48C4-AB59-4C53-93EF-7C5AF6B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964B-1D70-46D3-A937-0102DA4F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1BCF-22AE-4EB4-AFE3-9BA5E0AA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EC8B-A24E-4864-A606-53A35443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50CE-C915-4B58-A0DE-249CF091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48F-F7A8-426C-B2C6-C1A8D29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888-98ED-431B-81BA-182CC6C6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066-B71A-4699-B0D8-1D7FDE4F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A9F-C317-4D1F-8779-8F6747DF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901-0A8F-44C0-A32A-2F8E783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1BD-0750-4656-87D6-61D988EE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0A4-51CD-4691-80E3-C5537F37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873C-4933-4D86-AC61-59F085F3B93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B878-F83B-4CBA-9AD2-F895E02A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454800">
            <a:off x="7236000" y="549000"/>
            <a:ext cx="1439640" cy="1224000"/>
          </a:xfrm>
          <a:prstGeom prst="star5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49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ngenbe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6D14-4101-4BD8-9F3A-9DB6D1E5A69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4CAF-6795-482B-91D7-E989A0232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Quietschende_Reife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652200">
            <a:off x="2268360" y="105264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Flintst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1435600">
            <a:off x="2975040" y="2928600"/>
            <a:ext cx="3529080" cy="254160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2800" y="658440"/>
            <a:ext cx="6137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Nicht zu vergessen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5373720"/>
            <a:ext cx="3809880" cy="730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Lowen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6520" y="1989000"/>
            <a:ext cx="381024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und der Rüsselstaubsauger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20" name="Picture 5" descr="D:\Kurs 4015\Präsentationen\Flintstones\Russelstaubsauger.jpg"/>
          <p:cNvPicPr/>
          <p:nvPr/>
        </p:nvPicPr>
        <p:blipFill>
          <a:blip r:embed="rId1"/>
          <a:stretch/>
        </p:blipFill>
        <p:spPr>
          <a:xfrm>
            <a:off x="5435640" y="4221000"/>
            <a:ext cx="2286000" cy="149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:\Kurs 4015\Präsentationen\Flintstones\Pebbles_mit_Lowen.jpg"/>
          <p:cNvPicPr/>
          <p:nvPr/>
        </p:nvPicPr>
        <p:blipFill>
          <a:blip r:embed="rId2"/>
          <a:stretch/>
        </p:blipFill>
        <p:spPr>
          <a:xfrm>
            <a:off x="1187280" y="2205000"/>
            <a:ext cx="2286000" cy="2639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AED-3647-46C5-80F0-833A46AF109E}" type="slidenum">
              <a:t>10</a:t>
            </a:fld>
          </a:p>
        </p:txBody>
      </p:sp>
    </p:spTree>
  </p:cSld>
  <p:transition advTm="5000"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cc"/>
                </a:solidFill>
                <a:latin typeface="Times New Roman"/>
              </a:rPr>
              <a:t>Die Flintstones im Überbli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4360" y="1989000"/>
            <a:ext cx="7771680" cy="4114080"/>
            <a:chOff x="684360" y="1989000"/>
            <a:chExt cx="7771680" cy="4114080"/>
          </a:xfrm>
        </p:grpSpPr>
        <p:cxnSp>
          <p:nvCxnSpPr>
            <p:cNvPr id="124" name="_s34847"/>
            <p:cNvCxnSpPr>
              <a:stCxn id="125" idx="1"/>
              <a:endCxn id="126" idx="2"/>
            </p:cNvCxnSpPr>
            <p:nvPr/>
          </p:nvCxnSpPr>
          <p:spPr>
            <a:xfrm rot="10800000">
              <a:off x="3883680" y="4339440"/>
              <a:ext cx="4575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4845"/>
            <p:cNvCxnSpPr>
              <a:stCxn id="128" idx="3"/>
              <a:endCxn id="126" idx="2"/>
            </p:cNvCxnSpPr>
            <p:nvPr/>
          </p:nvCxnSpPr>
          <p:spPr>
            <a:xfrm flipV="1">
              <a:off x="3426840" y="4340160"/>
              <a:ext cx="457560" cy="146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4843"/>
            <p:cNvCxnSpPr>
              <a:stCxn id="130" idx="3"/>
              <a:endCxn id="126" idx="2"/>
            </p:cNvCxnSpPr>
            <p:nvPr/>
          </p:nvCxnSpPr>
          <p:spPr>
            <a:xfrm flipV="1">
              <a:off x="3426840" y="4339800"/>
              <a:ext cx="4575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4833"/>
            <p:cNvCxnSpPr>
              <a:stCxn id="132" idx="0"/>
              <a:endCxn id="133" idx="2"/>
            </p:cNvCxnSpPr>
            <p:nvPr/>
          </p:nvCxnSpPr>
          <p:spPr>
            <a:xfrm flipV="1">
              <a:off x="7084440" y="3458160"/>
              <a:ext cx="3240" cy="29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34831"/>
            <p:cNvCxnSpPr>
              <a:stCxn id="126" idx="0"/>
              <a:endCxn id="135" idx="2"/>
            </p:cNvCxnSpPr>
            <p:nvPr/>
          </p:nvCxnSpPr>
          <p:spPr>
            <a:xfrm flipV="1">
              <a:off x="3884040" y="3458160"/>
              <a:ext cx="3240" cy="29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34827"/>
            <p:cNvCxnSpPr>
              <a:stCxn id="133" idx="0"/>
              <a:endCxn id="137" idx="2"/>
            </p:cNvCxnSpPr>
            <p:nvPr/>
          </p:nvCxnSpPr>
          <p:spPr>
            <a:xfrm flipV="1" rot="16200000">
              <a:off x="6136920" y="1922760"/>
              <a:ext cx="294480" cy="1600920"/>
            </a:xfrm>
            <a:prstGeom prst="bentConnector3">
              <a:avLst>
                <a:gd name="adj1" fmla="val 38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34826"/>
            <p:cNvCxnSpPr>
              <a:stCxn id="135" idx="0"/>
              <a:endCxn id="137" idx="2"/>
            </p:cNvCxnSpPr>
            <p:nvPr/>
          </p:nvCxnSpPr>
          <p:spPr>
            <a:xfrm flipH="1" flipV="1" rot="5400000">
              <a:off x="4536720" y="1923120"/>
              <a:ext cx="294480" cy="1600200"/>
            </a:xfrm>
            <a:prstGeom prst="bentConnector3">
              <a:avLst>
                <a:gd name="adj1" fmla="val 38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34822"/>
            <p:cNvSpPr/>
            <p:nvPr/>
          </p:nvSpPr>
          <p:spPr>
            <a:xfrm>
              <a:off x="4112640" y="198900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ie zentralen Figur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34823"/>
            <p:cNvSpPr/>
            <p:nvPr/>
          </p:nvSpPr>
          <p:spPr>
            <a:xfrm>
              <a:off x="2512800" y="287064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Fred und Wilm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34824"/>
            <p:cNvSpPr/>
            <p:nvPr/>
          </p:nvSpPr>
          <p:spPr>
            <a:xfrm>
              <a:off x="5713200" y="287064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Betty und Barne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34830"/>
            <p:cNvSpPr/>
            <p:nvPr/>
          </p:nvSpPr>
          <p:spPr>
            <a:xfrm>
              <a:off x="2512800" y="375228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Tochter Pebb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34832"/>
            <p:cNvSpPr/>
            <p:nvPr/>
          </p:nvSpPr>
          <p:spPr>
            <a:xfrm>
              <a:off x="5713200" y="375228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BamBam mit der Keu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34842"/>
            <p:cNvSpPr/>
            <p:nvPr/>
          </p:nvSpPr>
          <p:spPr>
            <a:xfrm>
              <a:off x="684360" y="463392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ino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er Haushu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34844"/>
            <p:cNvSpPr/>
            <p:nvPr/>
          </p:nvSpPr>
          <p:spPr>
            <a:xfrm>
              <a:off x="684360" y="551556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Rüsselstaubsau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34846"/>
            <p:cNvSpPr/>
            <p:nvPr/>
          </p:nvSpPr>
          <p:spPr>
            <a:xfrm>
              <a:off x="4341600" y="463392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Low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ie Katz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F8A-58D0-4998-8CC0-CF806F060458}" type="slidenum">
              <a:t>11</a:t>
            </a:fld>
          </a:p>
        </p:txBody>
      </p:sp>
    </p:spTree>
  </p:cSld>
  <p:transition advTm="5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lintstones...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19112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meet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're a modern stone age fam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the town of bedroc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're a page right out of hi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t's ride with the family down the str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ugh the courtesy of Fred's two f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you're with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a yabb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'll have a great old time.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41" name="Picture 4" descr="D:\Kurs 4015\Präsentationen\Flintstones\Dino_singend.jpg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672-F901-4FE7-B13D-E7E576C00156}" type="slidenum">
              <a:t>12</a:t>
            </a:fld>
          </a:p>
        </p:txBody>
      </p:sp>
    </p:spTree>
  </p:cSld>
  <p:transition advTm="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Fred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arney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eide Männer...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Fred und Wilma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Pebbles und Dino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etty und Barney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amBam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Pebbles und BamBam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Lowen und Rüsselstaubsauger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Überblick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Flintstones-Song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BDF-6566-4C12-BE6A-A3C87EFB2F00}" type="slidenum">
              <a:t>2</a:t>
            </a:fld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658440"/>
            <a:ext cx="2465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Fre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920" y="5013360"/>
            <a:ext cx="7199280" cy="1442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Der ungestüme Fred ist der klassische Verlierer, der sich nie gegen seine Frau Wilma durchsetzen kann...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96" name="Picture 4" descr="D:\Kurs 4015\Präsentationen\Flintstones\Fred_mit_Matschbirne.jpg"/>
          <p:cNvPicPr/>
          <p:nvPr/>
        </p:nvPicPr>
        <p:blipFill>
          <a:blip r:embed="rId1"/>
          <a:stretch/>
        </p:blipFill>
        <p:spPr>
          <a:xfrm>
            <a:off x="5148360" y="1557360"/>
            <a:ext cx="2890800" cy="3505320"/>
          </a:xfrm>
          <a:prstGeom prst="rect">
            <a:avLst/>
          </a:prstGeom>
          <a:ln w="0">
            <a:noFill/>
          </a:ln>
        </p:spPr>
      </p:pic>
      <p:sp>
        <p:nvSpPr>
          <p:cNvPr id="97" name="PubOvalCallout"/>
          <p:cNvSpPr/>
          <p:nvPr/>
        </p:nvSpPr>
        <p:spPr>
          <a:xfrm rot="20382000">
            <a:off x="3779640" y="836280"/>
            <a:ext cx="2620800" cy="1655640"/>
          </a:xfrm>
          <a:custGeom>
            <a:avLst/>
            <a:gdLst>
              <a:gd name="textAreaLeft" fmla="*/ 383760 w 2620800"/>
              <a:gd name="textAreaRight" fmla="*/ 2237040 w 2620800"/>
              <a:gd name="textAreaTop" fmla="*/ 181800 h 1655640"/>
              <a:gd name="textAreaBottom" fmla="*/ 1060560 h 16556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ilmaa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4EB-DBBD-4A39-83B3-C6D9E8D1F349}" type="slidenum">
              <a:t>3</a:t>
            </a:fld>
          </a:p>
        </p:txBody>
      </p:sp>
    </p:spTree>
  </p:cSld>
  <p:transition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arne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41960" y="1989000"/>
            <a:ext cx="41148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während sein bester Freund Barney Geröllheimer (Barney Rubble), der auf den ersten Blick etwas minderbemittelt wirkt, immer wieder als Glückspilz erweist.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0" name="Picture 4" descr="D:\Kurs 4015\Präsentationen\Flintstones\Barney_3.jpg"/>
          <p:cNvPicPr/>
          <p:nvPr/>
        </p:nvPicPr>
        <p:blipFill>
          <a:blip r:embed="rId1"/>
          <a:stretch/>
        </p:blipFill>
        <p:spPr>
          <a:xfrm>
            <a:off x="1143000" y="2895480"/>
            <a:ext cx="2286000" cy="24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4E9-C433-4C52-B108-FE3B32A592ED}" type="slidenum">
              <a:t>4</a:t>
            </a:fld>
          </a:p>
        </p:txBody>
      </p:sp>
    </p:spTree>
  </p:cSld>
  <p:transition advTm="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eide Männer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5120" y="4229280"/>
            <a:ext cx="3809880" cy="1752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arbeiten im Steinbruch von Mr.Schiefer (Mr.GeorgeSlate)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3" name="Picture 4" descr="D:\Kurs 4015\Präsentationen\Flintstones\Barney_und_Fred_im_Auto.jpg"/>
          <p:cNvPicPr/>
          <p:nvPr/>
        </p:nvPicPr>
        <p:blipFill>
          <a:blip r:embed="rId1"/>
          <a:stretch/>
        </p:blipFill>
        <p:spPr>
          <a:xfrm>
            <a:off x="5651640" y="4149720"/>
            <a:ext cx="228600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6CD-95F4-415B-9E09-2F3D3EDB702D}" type="slidenum">
              <a:t>5</a:t>
            </a:fld>
          </a:p>
        </p:txBody>
      </p:sp>
    </p:spTree>
  </p:cSld>
  <p:transition advTm="5000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ietschende_Reif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Fred und Wil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56000" y="4869000"/>
            <a:ext cx="4114800" cy="1218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Vervollständigt wird die Familie Feuerstein...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6" name="Picture 4" descr="D:\Kurs 4015\Präsentationen\Flintstones\Fred_and_Wilma_kussend.jpg"/>
          <p:cNvPicPr/>
          <p:nvPr/>
        </p:nvPicPr>
        <p:blipFill>
          <a:blip r:embed="rId1"/>
          <a:stretch/>
        </p:blipFill>
        <p:spPr>
          <a:xfrm>
            <a:off x="1066680" y="2133720"/>
            <a:ext cx="27590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D97-6267-4F10-8F45-28830E0CC563}" type="slidenum">
              <a:t>6</a:t>
            </a:fld>
          </a:p>
        </p:txBody>
      </p:sp>
    </p:spTree>
  </p:cSld>
  <p:transition advTm="5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Pebbles und Din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0200" y="1989000"/>
            <a:ext cx="38862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Durch die Tochter Pebbles, die im Februar 1963 das Licht der Urzeitwelt erblickt...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...und den Haushund Dino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9" name="Picture 4" descr="D:\Kurs 4015\Präsentationen\Flintstones\Dino_und_Pebbles_im_Rahmen.jpg"/>
          <p:cNvPicPr/>
          <p:nvPr/>
        </p:nvPicPr>
        <p:blipFill>
          <a:blip r:embed="rId1"/>
          <a:stretch/>
        </p:blipFill>
        <p:spPr>
          <a:xfrm>
            <a:off x="1371600" y="2666880"/>
            <a:ext cx="290340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24C-A442-4F97-A318-2A2F012814D4}" type="slidenum">
              <a:t>7</a:t>
            </a:fld>
          </a:p>
        </p:txBody>
      </p:sp>
    </p:spTree>
  </p:cSld>
  <p:transition advTm="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etty und Barne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95120" y="5257800"/>
            <a:ext cx="586764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Auch Barney und seine Frau Betty bleiben nicht lange kinderlos...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2" name="Picture 4" descr="Betty_and_Barney_1"/>
          <p:cNvPicPr/>
          <p:nvPr/>
        </p:nvPicPr>
        <p:blipFill>
          <a:blip r:embed="rId1"/>
          <a:stretch/>
        </p:blipFill>
        <p:spPr>
          <a:xfrm>
            <a:off x="1295280" y="2514600"/>
            <a:ext cx="228600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AF7-E6FC-4173-8D97-C6046481EBBA}" type="slidenum">
              <a:t>8</a:t>
            </a:fld>
          </a:p>
        </p:txBody>
      </p:sp>
    </p:spTree>
  </p:cSld>
  <p:transition advTm="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amBa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6400800" cy="2819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Im Herbst 1963 finden sie auf ihrer Türschwelle den bärenstarken Bamm-Bamm mit der Keule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5" name="Picture 4" descr="D:\Kurs 4015\Präsentationen\Flintstones\Bambam_und_Dino.jpg"/>
          <p:cNvPicPr/>
          <p:nvPr/>
        </p:nvPicPr>
        <p:blipFill>
          <a:blip r:embed="rId1"/>
          <a:stretch/>
        </p:blipFill>
        <p:spPr>
          <a:xfrm>
            <a:off x="6248520" y="2438280"/>
            <a:ext cx="2286000" cy="2960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D:\Kurs 4015\Präsentationen\Flintstones\Barney_mit_Bambam.jpg"/>
          <p:cNvPicPr/>
          <p:nvPr/>
        </p:nvPicPr>
        <p:blipFill>
          <a:blip r:embed="rId2"/>
          <a:stretch/>
        </p:blipFill>
        <p:spPr>
          <a:xfrm>
            <a:off x="2514600" y="3429000"/>
            <a:ext cx="2286000" cy="28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FE4-77C0-4269-9E3F-51D0D24EDFA8}" type="slidenum">
              <a:t>9</a:t>
            </a:fld>
          </a:p>
        </p:txBody>
      </p:sp>
    </p:spTree>
  </p:cSld>
  <p:transition advTm="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21:53:55Z</dcterms:created>
  <dc:creator>Oliver Mochmann</dc:creator>
  <dc:description/>
  <dc:language>en-US</dc:language>
  <cp:lastModifiedBy>Administrator</cp:lastModifiedBy>
  <dcterms:modified xsi:type="dcterms:W3CDTF">2011-06-06T09:10:08Z</dcterms:modified>
  <cp:revision>18</cp:revision>
  <dc:subject/>
  <dc:title>PowerPoint-Präsentation</dc:title>
</cp:coreProperties>
</file>